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46CA-24A5-44CF-A7B5-3B632650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D70B-4A6E-4AE1-B274-C6205381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BE06-E694-4548-B905-6F54D98A7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DDA7-D952-4C8F-9110-768AD7C8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326-6359-4BBC-B522-4DCE867F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C05-3B4A-4DDD-B6B2-FC69494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68C-6733-4DAF-9CAB-C8C857D2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C0A-023F-476D-B4D1-B100033D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9CB-B1B5-42A9-9297-6E63C9B0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9EC1-2B17-4561-A6FF-94BB8D93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491A-B25A-45CC-99CF-2BE2FCCE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362B-62BB-47C3-A638-B570DB44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24B2-2E9A-48F5-938A-46E950C5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34E-0D1B-42AE-8D5B-C09929DB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6828-787E-4C2A-8969-9806C766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7B4-770A-4D33-A774-AF0189AE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C3FF-9F9E-481C-9C0D-1F7F6B1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295A-BCED-4A68-B424-B2D74DA6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2996-8C92-4B5D-8367-50429CFB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FEE7-6431-4CDA-A598-A6B75A61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8A2A-5BA6-4758-AF18-A9D03424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6AE-AE5C-4E5D-9225-FE779EB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1B9-E6D6-470A-AC97-B3367C1C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3A0-E620-4806-9B01-24588657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4CA-58B8-49DB-A11D-1018FCA8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E24-3062-4EF9-AF83-0E7FD8A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CB6-A2A5-4569-B573-1598138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F46-928A-4670-94D8-AF58E38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557-F64D-48F8-ADEC-7096E3ED510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21A1-3D55-4204-A4A6-FC4BBC2194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4A5C-46F0-4E14-B234-E73F8793466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39AB-CDDB-455E-9323-67DB01EF4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Papyrus"/>
              </a:rPr>
              <a:t>SHIVA’S FIRE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KELLY ALE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77948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UZANNE FISHER STAPLES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IOGRAPHY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ZANNE WAS BORN IN PHILADELPH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S ONE BROTHER AND ONE SISTER AND SHE GRADUATED FROM BOTH KEYSTONE COLLEGE AND CEDAR CREST COLLE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ED TO INDIA, BECAME A NEWS REPORT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ED TO THE U.S. AND WORKED FOR THE WASHINGTON POST, SPENT SOME YEARS IN PAKISTAN, STORIES OF INDIAN WOMEN INSPIRATION FOR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HABANU DAUGHTER OF THE WIN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RIED TO WAYNE HARLEY, LIVES ON A FARM WITH THREE POODLES AND THREE CA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A NOVELIST, TRAVELS AROUND INDIA A LO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8001000" y="1143000"/>
            <a:ext cx="131112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UZANNE FISHER STAPLES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OTHER BOOK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BANU DAUGHTER OF THE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USE OF DJ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PERSIMMON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GEROUS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N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898560" cy="152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7543800" y="3352680"/>
            <a:ext cx="1130400" cy="175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7950240" y="2438280"/>
            <a:ext cx="91764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5638680" y="5410080"/>
            <a:ext cx="93204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5638680" y="4191120"/>
            <a:ext cx="9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6"/>
          <a:stretch/>
        </p:blipFill>
        <p:spPr>
          <a:xfrm>
            <a:off x="4800600" y="4724280"/>
            <a:ext cx="85248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UZANNE FISHER STAPLES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WARDS FOR SHIVA’S FIR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YORK PUBLIC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S FOR THE TEEN AG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' CHOICE GOLD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'S GUIDE AWA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ER'S WEEKLY BEST BOOK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REN'S BOOK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</a:rPr>
              <a:t>SHIVA’S FIRE OVERVIEW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IVA’S F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BOUT A GIRL NAMED PARVATI WHO LOVES TO 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PARVATI GROWS UP SHE BECOMES KNOWN FOR STRANGE EVENTS THAT SEEM TO SPRING FROM BENEATH HER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AY THE GURU PAZHAYANUR MUTHU KUMARA PILLAI, THE GREAT MASTER OF INDIAN CLASSICAL DANCE, COMES TO SEE PARVATI AND INVITES HER TO STUDY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E MEETS A BOY WHO WITH HIS OWN POWERS TURNS HER LIFE UPSID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63044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754760" y="0"/>
            <a:ext cx="13892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ASSICAL INDIAN DANC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 PERFORMED INSIDE OF A TEMPLE WERE CALLE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AMA NARTAN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IS TYPE OF DANCE IS CLASSIFIED THIS TYPE OF DANCE FORM AS THE SOUL-LIBERATING 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 PERFORMED IN ROYAL COURTS WERE CALLE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NATAK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RBARI AATT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FORM OF DANCE THAT APPEALED MORE TO THE COMMONERS AND IT EDUCATED THEM ABOUT THEIR RELIGION, CULTURE AND SOCIAL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691400" y="4876920"/>
            <a:ext cx="14526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0" y="5181480"/>
            <a:ext cx="13017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7848720" y="1447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INDIAN CLOTHING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 men used to wear a single piece of loose cloth called a dhoti. It is draped around the legs and one end was tucked along the wa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wore saris, long pieces of cloth that can be wrapped in different ways over the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is were usually five yards 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ri was worn as a skirt with the upper part thrown over the shou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981920" y="0"/>
            <a:ext cx="1162080" cy="211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2133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0" y="4813200"/>
            <a:ext cx="1149480" cy="204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152280" y="4495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ncy Silk Dho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371600" y="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day Cotton S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086600" y="152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lk Embroid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43a1b"/>
                </a:solidFill>
                <a:latin typeface="Arial"/>
              </a:rPr>
              <a:t>LINKS</a:t>
            </a:r>
            <a:endParaRPr b="0" lang="en-US" sz="48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CAL INDIAN DANCING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AN SARI FASHION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CIENT INDIAN FASHION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AN MEN'S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KIPEDIA-INDIAN CLASSICAL 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2:07:01Z</dcterms:created>
  <dc:creator>USC/ISI</dc:creator>
  <dc:description/>
  <dc:language>en-US</dc:language>
  <cp:lastModifiedBy>USC/ISI</cp:lastModifiedBy>
  <dcterms:modified xsi:type="dcterms:W3CDTF">2009-11-17T19:15:40Z</dcterms:modified>
  <cp:revision>30</cp:revision>
  <dc:subject/>
  <dc:title>Shiva’s Fire</dc:title>
</cp:coreProperties>
</file>